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TYPE.WAV" ContentType="audio/x-wav"/>
  <Override PartName="/ppt/media/image8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592F-5FD3-44DC-8CD6-5B39532FB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C62A-A805-4E37-AD70-C22402B470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7EC-B852-423E-B3EE-B8D3F601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81C-16DB-41AF-A474-9E9B210A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B281-C5F0-459B-9015-DEA44F76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1F6-4D59-4CD6-9CD1-52770F2B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10B7-1227-47E6-9EFB-0BFD9F00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9F63-139B-47F3-8569-DFD5C8E5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ECA0-0B92-4AA2-8DF9-06A4CD0F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FFCD-9D0D-4A59-8E11-DC36ADFC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03F1-AA72-4AFF-B48D-A667958D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DB40-B857-49DB-B951-1FFAFFAE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B0E7-708E-4983-9E54-4E1678A5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E3C8-AB67-4617-907E-EFEF394C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FB56-E9FD-4E9B-91C7-3EC10BF3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E498-47F5-4729-835F-2E2197BB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703B-15D4-45D9-BB0E-EDE2F70A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054D-8642-4562-95BE-BB276201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ED7F-B5C2-4B93-83F7-6290D549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F75F9-0A7A-43A2-8C58-40B71699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E654C-EFCA-4029-9CEC-22B9C661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7213-42CA-4606-89D8-F7346E9F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416E3-6FFA-414C-9113-2A229815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0A2C5-5A7C-4684-B9B0-5D9F677A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687-AE21-4B69-9D96-82A5F2AD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F9782-FC50-4F66-BE1D-73BF52A4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0BCD1-BC54-4931-B1C8-A81CC5BD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AB5D7-4A76-4125-9EC3-716B7E2D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23B4A-3921-40CA-A8A2-D02B1BB9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EBE56-7740-46AA-9167-912A8FDE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BE2E5-CAD6-4A24-8AE0-7032854B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6BDF6-488F-4DD0-B700-42AA0487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152E5-26E6-4BFC-9074-2C09307D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8853D-B420-4FD5-A5BA-43F5EAD8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4E843-F92A-4661-A7F4-CBB81CE5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50F3-3C98-411C-A91A-BD811B98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3180F-ABA4-4C19-BF3B-BEB60204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C6C85-0AB5-44FF-8E60-EF760FCA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66155-471D-4A07-B1E1-95C288C7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B0B8F-2942-4344-A65C-5B4EC880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BB823-BA8B-4D8A-BCF1-78B5243E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F9C2C-EACE-4CF0-994C-B87C4274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C9D80-D554-4083-BC35-A665B61D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CF09A-DE36-4DE5-9E86-D789D0A6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A76AA-492E-436A-B33D-D3D25C1D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44163-3A23-4072-AFFA-D53B10B2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A50-1E13-4B2C-BC96-00598F96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11614-FE67-4171-BDBF-F123EDF7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A8738-E854-4F25-B74A-F94B237A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80F50-4714-494F-A5DB-3CC2738B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79719-7A7F-4670-BDB5-D299191A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592B0-24BE-40F2-8697-7158DB76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11539-8E89-4927-ABBA-9D31DE32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5E377-8460-4344-97ED-44CEB154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2C95B-078E-4523-B720-822C8E39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8C2DE-AFE0-4943-9CDF-10857149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D1752-518D-43A9-8921-4F785DDB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38B-1AE4-4DBA-AAFF-66E77006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B6302-B037-4403-8CDE-CBB06941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145A9-4624-4126-97B8-1A5924F6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DD7E4-8684-4361-B623-DC49397A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BB7AE-1851-4095-88C4-29D7488A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4CF4F-0061-41A8-B678-C4116D25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E7E0C-07AE-4A6C-B6AB-ED99C961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41A85-7013-415B-B833-71660A1B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3A04A-5C85-4519-87FF-EECCC50C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287BA-4BC3-4F8C-B1C6-0AF36B1C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87217-5DF4-4672-B95A-C94A7EA4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24F-F5BD-4761-9986-C3483723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C8E69-1499-44C3-94FD-CA74105C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E9C2C-8F64-4815-B35A-5A246A7F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41ABD-F8F2-4A81-86B1-5D0221D0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6EC7-4C09-4A69-8C12-DF06E9C9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B27-2C9B-42DA-B08E-986D8932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CFE8-CA4C-48EE-B3FB-E319FE1B81FA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5FBF-82D0-4D1B-A982-D24462E8D2F2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DCBF-B974-4C55-A724-C406EC38BA62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F22E-92FD-44BB-9906-73E385464DB1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F322-5409-438B-B10D-8D107FCCADF6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32AD-949E-4F2D-BB87-2AE638BC896A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pptcloud.ru/obzh/chs_prirodnogo_tehnogennogo_harakter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317520" y="360360"/>
            <a:ext cx="85820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6"/>
          <p:cNvSpPr/>
          <p:nvPr/>
        </p:nvSpPr>
        <p:spPr>
          <a:xfrm>
            <a:off x="324000" y="476280"/>
            <a:ext cx="849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скорости развития ЧС делят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зрывные, внезапные, скоротечные, плав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324000" y="4581360"/>
            <a:ext cx="842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масштабу распространения ЧС бываю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окальные,  местные, территориальные, региональные,  федеральные, трансграничн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324000" y="1557360"/>
            <a:ext cx="835164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4. По возможности предотвращ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избежные (природные),  предотвращаемые (техногенные, социальны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395280" y="292428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. По ведомственной принадлежности: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в промышленности,  строительстве, на транспорте, в жилищно-коммунальной сфере, сельском, лесном хозяйстве и т.д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4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75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995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5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32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5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75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0" y="642960"/>
          <a:ext cx="9144000" cy="601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Ч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острадав-ш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ены условия  жиз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-ный ущер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распрас-  транения  Ч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ка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 объ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 до 50 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0 до 3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 тыс. до 5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города, района, н.пун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-а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 до500 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300 до 500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 тыс. до 500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субъекта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 до 5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0 до 10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0 тыс. до 5 млн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2-х субъектов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5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10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5 млн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ит за пределы 2-х субъектов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гранич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ит за пределы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2" descr=""/>
          <p:cNvPicPr/>
          <p:nvPr/>
        </p:nvPicPr>
        <p:blipFill>
          <a:blip r:embed="rId1"/>
          <a:stretch/>
        </p:blipFill>
        <p:spPr>
          <a:xfrm>
            <a:off x="676440" y="225360"/>
            <a:ext cx="7785000" cy="10494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24000" y="1197000"/>
            <a:ext cx="8496000" cy="1224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ЧС техногенного характ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395280" y="2924280"/>
          <a:ext cx="3960720" cy="34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924280"/>
                    <a:ext cx="3960720" cy="3457440"/>
                  </a:xfrm>
                  <a:prstGeom prst="rect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92" name="Picture 5" descr="207894"/>
          <p:cNvPicPr/>
          <p:nvPr/>
        </p:nvPicPr>
        <p:blipFill>
          <a:blip r:embed="rId4"/>
          <a:stretch/>
        </p:blipFill>
        <p:spPr>
          <a:xfrm>
            <a:off x="4788000" y="2924280"/>
            <a:ext cx="4032000" cy="3457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0" y="0"/>
            <a:ext cx="9128160" cy="620640"/>
          </a:xfrm>
          <a:prstGeom prst="rect">
            <a:avLst/>
          </a:prstGeom>
          <a:solidFill>
            <a:srgbClr val="c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резвычайные ситуации техногенного характе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0" y="770040"/>
            <a:ext cx="2195640" cy="57600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анспортные авар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0" y="1484280"/>
            <a:ext cx="2195640" cy="11527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биологически опас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0" y="2744640"/>
            <a:ext cx="2195640" cy="9367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на очистных сооружения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0" y="3789360"/>
            <a:ext cx="2195640" cy="51444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ожары и взрыв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0" y="4383000"/>
            <a:ext cx="2195640" cy="11383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незапное обрушение зданий и сооруж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Прямоугольник 8"/>
          <p:cNvSpPr/>
          <p:nvPr/>
        </p:nvSpPr>
        <p:spPr>
          <a:xfrm>
            <a:off x="6931080" y="1052640"/>
            <a:ext cx="21970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химически опас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Прямоугольник 9"/>
          <p:cNvSpPr/>
          <p:nvPr/>
        </p:nvSpPr>
        <p:spPr>
          <a:xfrm>
            <a:off x="6915240" y="2421000"/>
            <a:ext cx="21952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радиоактив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Прямоугольник 10"/>
          <p:cNvSpPr/>
          <p:nvPr/>
        </p:nvSpPr>
        <p:spPr>
          <a:xfrm>
            <a:off x="6915240" y="3789360"/>
            <a:ext cx="21952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на энергетических система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Прямоугольник 11"/>
          <p:cNvSpPr/>
          <p:nvPr/>
        </p:nvSpPr>
        <p:spPr>
          <a:xfrm>
            <a:off x="6915240" y="5157720"/>
            <a:ext cx="2195280" cy="120168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на коммунальных системах жизнеобеспеч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0" y="5732640"/>
            <a:ext cx="2195640" cy="936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Arial"/>
              </a:rPr>
              <a:t>Гидродинамические аварии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Прямая соединительная линия 14"/>
          <p:cNvSpPr/>
          <p:nvPr/>
        </p:nvSpPr>
        <p:spPr>
          <a:xfrm>
            <a:off x="2484360" y="620640"/>
            <a:ext cx="22320" cy="565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6516720" y="620640"/>
            <a:ext cx="0" cy="511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6" name="Прямая со стрелкой 18"/>
          <p:cNvCxnSpPr>
            <a:endCxn id="294" idx="3"/>
          </p:cNvCxnSpPr>
          <p:nvPr/>
        </p:nvCxnSpPr>
        <p:spPr>
          <a:xfrm flipH="1">
            <a:off x="2195280" y="1056960"/>
            <a:ext cx="289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2135160" y="198108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2"/>
          <a:stretch/>
        </p:blipFill>
        <p:spPr>
          <a:xfrm>
            <a:off x="2112840" y="313380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"/>
          <p:cNvPicPr/>
          <p:nvPr/>
        </p:nvPicPr>
        <p:blipFill>
          <a:blip r:embed="rId3"/>
          <a:stretch/>
        </p:blipFill>
        <p:spPr>
          <a:xfrm>
            <a:off x="2112840" y="397656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4"/>
          <a:stretch/>
        </p:blipFill>
        <p:spPr>
          <a:xfrm>
            <a:off x="2133720" y="487368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5"/>
          <a:stretch/>
        </p:blipFill>
        <p:spPr>
          <a:xfrm>
            <a:off x="2135160" y="6200640"/>
            <a:ext cx="371520" cy="158760"/>
          </a:xfrm>
          <a:prstGeom prst="rect">
            <a:avLst/>
          </a:prstGeom>
          <a:ln w="0">
            <a:noFill/>
          </a:ln>
        </p:spPr>
      </p:pic>
      <p:cxnSp>
        <p:nvCxnSpPr>
          <p:cNvPr id="312" name="Прямая со стрелкой 21"/>
          <p:cNvCxnSpPr/>
          <p:nvPr/>
        </p:nvCxnSpPr>
        <p:spPr>
          <a:xfrm>
            <a:off x="6516360" y="1639440"/>
            <a:ext cx="415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313" name="Picture 8" descr=""/>
          <p:cNvPicPr/>
          <p:nvPr/>
        </p:nvPicPr>
        <p:blipFill>
          <a:blip r:embed="rId6"/>
          <a:stretch/>
        </p:blipFill>
        <p:spPr>
          <a:xfrm>
            <a:off x="6531120" y="565308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"/>
          <p:cNvPicPr/>
          <p:nvPr/>
        </p:nvPicPr>
        <p:blipFill>
          <a:blip r:embed="rId7"/>
          <a:stretch/>
        </p:blipFill>
        <p:spPr>
          <a:xfrm>
            <a:off x="6531120" y="430380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"/>
          <p:cNvPicPr/>
          <p:nvPr/>
        </p:nvPicPr>
        <p:blipFill>
          <a:blip r:embed="rId8"/>
          <a:stretch/>
        </p:blipFill>
        <p:spPr>
          <a:xfrm>
            <a:off x="6531120" y="295920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1" descr=""/>
          <p:cNvPicPr/>
          <p:nvPr/>
        </p:nvPicPr>
        <p:blipFill>
          <a:blip r:embed="rId9"/>
          <a:stretch/>
        </p:blipFill>
        <p:spPr>
          <a:xfrm>
            <a:off x="2627280" y="770040"/>
            <a:ext cx="1728720" cy="1093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2" descr=""/>
          <p:cNvPicPr/>
          <p:nvPr/>
        </p:nvPicPr>
        <p:blipFill>
          <a:blip r:embed="rId10"/>
          <a:stretch/>
        </p:blipFill>
        <p:spPr>
          <a:xfrm>
            <a:off x="2600280" y="1981080"/>
            <a:ext cx="1733760" cy="1171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"/>
          <p:cNvPicPr/>
          <p:nvPr/>
        </p:nvPicPr>
        <p:blipFill>
          <a:blip r:embed="rId11"/>
          <a:stretch/>
        </p:blipFill>
        <p:spPr>
          <a:xfrm>
            <a:off x="2627280" y="3213000"/>
            <a:ext cx="1728720" cy="1152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"/>
          <p:cNvPicPr/>
          <p:nvPr/>
        </p:nvPicPr>
        <p:blipFill>
          <a:blip r:embed="rId12"/>
          <a:stretch/>
        </p:blipFill>
        <p:spPr>
          <a:xfrm>
            <a:off x="2627280" y="321300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5" descr=""/>
          <p:cNvPicPr/>
          <p:nvPr/>
        </p:nvPicPr>
        <p:blipFill>
          <a:blip r:embed="rId13"/>
          <a:stretch/>
        </p:blipFill>
        <p:spPr>
          <a:xfrm>
            <a:off x="2627280" y="4452840"/>
            <a:ext cx="1728720" cy="1157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6" descr=""/>
          <p:cNvPicPr/>
          <p:nvPr/>
        </p:nvPicPr>
        <p:blipFill>
          <a:blip r:embed="rId14"/>
          <a:stretch/>
        </p:blipFill>
        <p:spPr>
          <a:xfrm>
            <a:off x="2577960" y="5616720"/>
            <a:ext cx="1704960" cy="1136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7" descr=""/>
          <p:cNvPicPr/>
          <p:nvPr/>
        </p:nvPicPr>
        <p:blipFill>
          <a:blip r:embed="rId15"/>
          <a:stretch/>
        </p:blipFill>
        <p:spPr>
          <a:xfrm>
            <a:off x="4830840" y="770040"/>
            <a:ext cx="1611360" cy="1211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8" descr=""/>
          <p:cNvPicPr/>
          <p:nvPr/>
        </p:nvPicPr>
        <p:blipFill>
          <a:blip r:embed="rId16"/>
          <a:stretch/>
        </p:blipFill>
        <p:spPr>
          <a:xfrm>
            <a:off x="4830840" y="2205000"/>
            <a:ext cx="1611360" cy="1074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9" descr=""/>
          <p:cNvPicPr/>
          <p:nvPr/>
        </p:nvPicPr>
        <p:blipFill>
          <a:blip r:embed="rId17"/>
          <a:stretch/>
        </p:blipFill>
        <p:spPr>
          <a:xfrm>
            <a:off x="4827600" y="3573360"/>
            <a:ext cx="1612800" cy="1289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0" descr=""/>
          <p:cNvPicPr/>
          <p:nvPr/>
        </p:nvPicPr>
        <p:blipFill>
          <a:blip r:embed="rId18"/>
          <a:stretch/>
        </p:blipFill>
        <p:spPr>
          <a:xfrm>
            <a:off x="4851360" y="5248440"/>
            <a:ext cx="1590840" cy="119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617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ы развития ЧС</a:t>
            </a:r>
            <a:br>
              <a:rPr sz="28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Накопление отклонений от нормального состояния или процесса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явление фактора неустойчивости или «аварийная ситуация» (видны  предпосылки, есть реальная возможность предотвратить или  уменьшить ЧС)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оцесс чрезвычайного события (происходит воздействие на людей и окружающую среду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ыход аварии за пределы территории объекта и действие остаточных факторов поражения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Ликвидация последствий аварии или  стихийного бедствия (поисково-спасательные, аварийно-восстановительные работы). 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ВОПРОС 3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ЧС природного характе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" descr="2143459841"/>
          <p:cNvPicPr/>
          <p:nvPr/>
        </p:nvPicPr>
        <p:blipFill>
          <a:blip r:embed="rId1"/>
          <a:stretch/>
        </p:blipFill>
        <p:spPr>
          <a:xfrm>
            <a:off x="4572000" y="2781360"/>
            <a:ext cx="4176720" cy="3816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330" name="Picture 4" descr="a3199732-1"/>
          <p:cNvPicPr/>
          <p:nvPr/>
        </p:nvPicPr>
        <p:blipFill>
          <a:blip r:embed="rId2"/>
          <a:stretch/>
        </p:blipFill>
        <p:spPr>
          <a:xfrm>
            <a:off x="324000" y="2781360"/>
            <a:ext cx="385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85480" y="333000"/>
            <a:ext cx="86072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резвычайные ситуации  природного харак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физ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землетрясения, извержение вулкан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Ге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ползни, сели, обвалы, осыпи, лави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еорологически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агрометеорологические) опасные явления  (бури, смерчи, ураганы, град, сильный дождь, снег, мороз, метель, жара, туман, засух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рские гидр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цунами, шторм, тайфуны, напор льд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идр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аводнения, низкий уровень воды, ветровые наг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родные пожары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лесные, степные, торфяные, подзем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опросы для закрепления.</a:t>
            </a:r>
            <a:br>
              <a:rPr sz="4600"/>
            </a:br>
            <a:r>
              <a:rPr b="1" i="1" lang="ru-RU" sz="4000" spc="-1" strike="noStrike">
                <a:solidFill>
                  <a:srgbClr val="ffffff"/>
                </a:solidFill>
                <a:latin typeface="Franklin Gothic Book"/>
              </a:rPr>
              <a:t>1. Найдите ошибки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К ЧС  техногенного характера относятся: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а) авария на  трубопроводе;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б) разрушение озонового слоя;        в) теракт в самолете;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г) прорыв плотины на ГЭС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2. Распределите ЧС по порядку, в зависимости от скорости их развития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внезап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плавные;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скоротечные;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г) взрывные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3. Что не относится к классификации ЧС по масштабам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 территориаль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локаль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административ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г) федераль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ЕМЫЕ ВОПРОСЫ</a:t>
            </a:r>
            <a:br>
              <a:rPr sz="4600"/>
            </a:b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Чрезвычайные ситуации. Общая классификация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Классификация ЧС техногенного характера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лассификация ЧС природного характера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4. При какой ЧС поражающие факторы выходят за пределы двух субъектов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 трансграничной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региональной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федерально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5.  В какой фазе развития ЧС происходит процесс чрезвычайного события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1;     б) 2;    в) 3      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                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Домашнее задание.</a:t>
            </a: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1. Конспек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2. Ответы на вопрос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3. Посмотреть видео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1"/>
              </a:rPr>
              <a:t>https://pptcloud.ru/obzh/chs_prirodnogo_tehnogennogo_haraktera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Домашнее задание сдать до 21.10.2020</a:t>
            </a:r>
            <a:br>
              <a:rPr sz="54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7800" cy="141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Franklin Gothic Book"/>
              </a:rPr>
              <a:t>      </a:t>
            </a:r>
            <a:r>
              <a:rPr b="1" lang="ru-RU" sz="32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ВОПРОС 1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</a:t>
            </a:r>
            <a:r>
              <a:rPr b="1" lang="ru-RU" sz="32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чрезвычайных ситуаций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50920" y="1557360"/>
            <a:ext cx="8496360" cy="5771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Чрезвычайная ситуаци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(ЧС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— это нарушение нормальных условий жизнедеятельности людей на определенной территории, вызванное аварией, катастрофой, стихийным или экологическим бедствием, в результате которых возникает угроза жизни и здоровью, наносится ущерб имуществу населения, народному хозяйству и окружающей природной сре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8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75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По причине возникнов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намеренные (война, диверсия) и непреднамеренные    (стихийные  бедствия)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4788000" y="2357280"/>
            <a:ext cx="4268520" cy="4000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ShowImage122"/>
          <p:cNvPicPr/>
          <p:nvPr/>
        </p:nvPicPr>
        <p:blipFill>
          <a:blip r:embed="rId2"/>
          <a:stretch/>
        </p:blipFill>
        <p:spPr>
          <a:xfrm>
            <a:off x="250920" y="2205000"/>
            <a:ext cx="4321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a07"/>
          <p:cNvPicPr/>
          <p:nvPr/>
        </p:nvPicPr>
        <p:blipFill>
          <a:blip r:embed="rId1"/>
          <a:stretch/>
        </p:blipFill>
        <p:spPr>
          <a:xfrm>
            <a:off x="250920" y="2421000"/>
            <a:ext cx="4105080" cy="4176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asi14"/>
          <p:cNvPicPr/>
          <p:nvPr/>
        </p:nvPicPr>
        <p:blipFill>
          <a:blip r:embed="rId2"/>
          <a:stretch/>
        </p:blipFill>
        <p:spPr>
          <a:xfrm>
            <a:off x="4572000" y="2421000"/>
            <a:ext cx="4321080" cy="41767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250920" y="189000"/>
            <a:ext cx="8569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. По природе возникнов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риродные - стихийные бедствия (землетрясения, наводнения, цунами,  сели, оползни,  лавины, снежные заносы и др.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техногенные аварии и катастрофы (взрывы, пожары, выбросы ядовитых и радиоактивных веществ, обрушение зданий, аварии на системах жизнеобеспечения и др.);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21080" cy="4537080"/>
          </a:xfrm>
          <a:prstGeom prst="rect">
            <a:avLst/>
          </a:prstGeom>
          <a:ln w="0">
            <a:noFill/>
          </a:ln>
        </p:spPr>
      </p:pic>
      <p:pic>
        <p:nvPicPr>
          <p:cNvPr id="273" name="Содержимое 5" descr="-god-nazad-proizoshla-avarija-na-chernobylskoj-aes-foto_19003_s__6.jpg"/>
          <p:cNvPicPr/>
          <p:nvPr/>
        </p:nvPicPr>
        <p:blipFill>
          <a:blip r:embed="rId2"/>
          <a:stretch/>
        </p:blipFill>
        <p:spPr>
          <a:xfrm>
            <a:off x="4716360" y="2060640"/>
            <a:ext cx="4176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антропогенные - являются следствием ошибочных действий людей;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5" name="Picture 4" descr="26BR6967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2060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экологические - аномальные изменения состояния природной среды (качественное изменение биосферы, заражение почвы, воды, атмосферы, нарушение озонового слоя)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7" name="Picture 2" descr="miracle2-1-big"/>
          <p:cNvPicPr/>
          <p:nvPr/>
        </p:nvPicPr>
        <p:blipFill>
          <a:blip r:embed="rId1"/>
          <a:stretch/>
        </p:blipFill>
        <p:spPr>
          <a:xfrm>
            <a:off x="250920" y="2276640"/>
            <a:ext cx="4465440" cy="4321080"/>
          </a:xfrm>
          <a:prstGeom prst="rect">
            <a:avLst/>
          </a:prstGeom>
          <a:ln w="0">
            <a:noFill/>
          </a:ln>
        </p:spPr>
      </p:pic>
      <p:pic>
        <p:nvPicPr>
          <p:cNvPr id="278" name="i-main-pic" descr="Картинка 5 из 4023"/>
          <p:cNvPicPr/>
          <p:nvPr/>
        </p:nvPicPr>
        <p:blipFill>
          <a:blip r:embed="rId2"/>
          <a:stretch/>
        </p:blipFill>
        <p:spPr>
          <a:xfrm>
            <a:off x="4932360" y="2276640"/>
            <a:ext cx="3960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 социальные (мошенничество, бандитизм, разбой, террор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Picture 3" descr="4"/>
          <p:cNvPicPr/>
          <p:nvPr/>
        </p:nvPicPr>
        <p:blipFill>
          <a:blip r:embed="rId1"/>
          <a:stretch/>
        </p:blipFill>
        <p:spPr>
          <a:xfrm>
            <a:off x="250920" y="1889280"/>
            <a:ext cx="5184720" cy="4968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5580000" y="3933720"/>
            <a:ext cx="3240000" cy="2924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3"/>
          <a:stretch/>
        </p:blipFill>
        <p:spPr>
          <a:xfrm>
            <a:off x="5724360" y="1557360"/>
            <a:ext cx="31687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2:12:07Z</dcterms:created>
  <dc:creator>user</dc:creator>
  <dc:description/>
  <dc:language>en-US</dc:language>
  <cp:lastModifiedBy>Зам</cp:lastModifiedBy>
  <dcterms:modified xsi:type="dcterms:W3CDTF">2020-10-16T14:18:29Z</dcterms:modified>
  <cp:revision>194</cp:revision>
  <dc:subject/>
  <dc:title>Чрезвычайные ситуациии</dc:title>
</cp:coreProperties>
</file>