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TYPE.WAV" ContentType="audio/x-wav"/>
  <Override PartName="/ppt/media/image8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3A65-9AE1-4B28-9D61-A428BEC09B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D6D8-89CB-41B6-93E6-62B85029B3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1D9-9E70-4EA0-89C3-9C9F4096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16C-B11B-49C3-9CC6-57CE2A00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569-E295-4C6D-A585-9F8393F8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F73-6915-4634-A43D-9E127695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E23F-2ABD-48BF-8424-A65D3EA8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BE3D-EA1D-4ACC-A93B-1408966B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ECA1-6874-4231-BE81-34E0CAD3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101F-7F6C-4151-BBAA-9C70E29A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ECC9-C72F-468F-9E76-22F92FFD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13E3-DAC0-412D-8F8B-B9C4A101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FB7B-492B-4497-97AC-EE516513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CCB-B4C8-4CD8-A3E4-2982526A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87CF-F6B3-4261-9DAB-886038BC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1937-1B51-4B9F-B37C-907A6BF8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0818-C671-4168-A6D9-C267BB76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F158-4769-4171-9783-0681940B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513E-3B37-4B0B-AF15-10D86F76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71CA-6729-4CF9-AA33-4204B857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D6D4C-2A28-4334-9E9A-BE4033D8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FCF76-54CF-47EB-A22C-F3935E10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0D8D7-9350-43C2-A783-3AF2B172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CC747-20FE-438B-9ADB-C4E01A93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C3F-345F-4CDA-953E-9D5E473E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FD862-AB0F-4695-9D28-06453CFE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8B8A2-A1BC-4659-8070-D4F2FD9F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E5F6-A41B-448D-9C54-6CBA91C0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B5535-1FF9-464D-9DE0-A3400ABE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584EA-0A8A-49FE-8C72-E1388E5E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72979-95DB-449A-B550-D5BF9974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9ED21-CF73-433C-8DBA-6F54D738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165A6-1115-468C-8AA1-9F07F4E5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E98BA-37A7-463F-80D5-37253840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0C4E9-401D-4E9E-8005-393E4B9C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7D5-89CB-42A1-9D9A-F6C8B879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907A6-0916-45B0-82B7-68EA1B76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48F25-633C-4623-9F4A-FB6B1861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E234F-4D36-4CDC-AC5C-F93B7AEB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F6CEC-8CBD-405E-AA2B-624CDA6F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17A28-4A25-4AB0-9364-5B551A17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89F71-0462-40C2-8D73-7CA9C92B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62D77-982C-41E3-96F2-14B6B65D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ED614-3304-4979-A3E2-4DDCBBC8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2D9CF-EFCB-415B-9787-152DD50B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CFE6D-0274-47C9-B92F-77B3123D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B99-8AB9-4B00-B5A9-54289E14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34FE9-D368-4036-9346-5F3E9D8D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59D7E-024B-4E84-A5B8-F2A1BC40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FD9DD-14FB-42D2-810E-F9793E38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5AD5C-6CB9-4691-A017-BD6E215B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3BAA2-1D98-4E26-B1DD-49F45462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EF276-D2B9-461E-A8E6-48E729AC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249D6-56DE-411B-B805-2AD85B78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79CF0-6F70-4A96-A8B0-9F1C40F7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0BED3-6B3A-4052-BFB4-BDFCD4BC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AD2F2-01E0-4714-9970-A9EED490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2BD-D7CF-48B6-8B7C-CED7A56C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8168A-952A-44B1-A7D9-791FFF3B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3CA72-5657-4536-A4C0-5492CAE3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6C703-E77F-4DBB-B109-E148A1D4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EA0E9-71D9-4A7E-99CD-520228F3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FF189-C9A3-40AF-A367-E6A09A8E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717FA-E131-4031-B8CD-26F912EC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CF80B-FB63-42FC-BAF9-7850545D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C3EDA-AB7C-423B-AA9A-C25EBFCE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75A3A-B541-4E44-AD53-3FA8978C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2D4E0-E174-40A7-A7BE-6F263843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597-308E-41DB-8269-3D0DE2E2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BA4E0-5FFA-46C7-B296-34A6A80A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22936-20F8-4CBF-A8C4-21A60992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0B01F-CC54-4D9D-978E-F97C1297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7EF-4592-4888-A1FE-6CF2B8B1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ACD-30DB-45A3-AA27-36FAFD13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EEA0-9B7A-487A-926D-024CA4EF9FFD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C269-7A4F-43F3-988C-9C5442E851E1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08D0-D113-4935-AEAC-3488E4CBD73F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47BB-DEF2-426E-958C-C3157E3DD0C4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D689-E5E0-4858-B9B2-C87F9EBF3BBC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6333-D8AC-4C31-8A82-E31342EE865E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pptcloud.ru/obzh/chs_prirodnogo_tehnogennogo_harakter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317520" y="360360"/>
            <a:ext cx="85820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6"/>
          <p:cNvSpPr/>
          <p:nvPr/>
        </p:nvSpPr>
        <p:spPr>
          <a:xfrm>
            <a:off x="324000" y="476280"/>
            <a:ext cx="849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скорости развития ЧС делят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зрывные, внезапные, скоротечные, плав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324000" y="4581360"/>
            <a:ext cx="842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масштабу распространения ЧС бываю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окальные,  местные, территориальные, региональные,  федеральные, трансгранич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324000" y="1557360"/>
            <a:ext cx="835164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4. По возможности предотвращ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избежные (природные),  предотвращаемые (техногенные, социальн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395280" y="292428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 По ведомственной принадлежности: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в промышленности,  строительстве, на транспорте, в жилищно-коммунальной сфере, сельском, лесном хозяйстве и т.д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4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75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995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5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32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5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75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642960"/>
          <a:ext cx="9144000" cy="601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Ч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острадав-ш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ы условия  жиз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-ный ущер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распрас-  транения  Ч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 объ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 до 50 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0 до 3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 тыс. до 5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города, района, н.пун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-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 до500 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300 до 500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 тыс. до 500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субъекта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 до 5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0 до 10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0 тыс. до 5 млн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2-х субъектов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10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 млн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ит за пределы 2-х субъектов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гранич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ит за пределы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2" descr=""/>
          <p:cNvPicPr/>
          <p:nvPr/>
        </p:nvPicPr>
        <p:blipFill>
          <a:blip r:embed="rId1"/>
          <a:stretch/>
        </p:blipFill>
        <p:spPr>
          <a:xfrm>
            <a:off x="676440" y="225360"/>
            <a:ext cx="7785000" cy="10494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24000" y="1197000"/>
            <a:ext cx="8496000" cy="1224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ЧС техногенного характ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395280" y="2924280"/>
          <a:ext cx="3960720" cy="34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924280"/>
                    <a:ext cx="3960720" cy="3457440"/>
                  </a:xfrm>
                  <a:prstGeom prst="rect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92" name="Picture 5" descr="207894"/>
          <p:cNvPicPr/>
          <p:nvPr/>
        </p:nvPicPr>
        <p:blipFill>
          <a:blip r:embed="rId4"/>
          <a:stretch/>
        </p:blipFill>
        <p:spPr>
          <a:xfrm>
            <a:off x="4788000" y="2924280"/>
            <a:ext cx="4032000" cy="3457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0" y="0"/>
            <a:ext cx="9128160" cy="620640"/>
          </a:xfrm>
          <a:prstGeom prst="rect">
            <a:avLst/>
          </a:prstGeom>
          <a:solidFill>
            <a:srgbClr val="c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резвычайные ситуации техногенного характе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0" y="770040"/>
            <a:ext cx="2195640" cy="57600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нспортные авар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0" y="1484280"/>
            <a:ext cx="2195640" cy="11527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биологически опас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0" y="2744640"/>
            <a:ext cx="2195640" cy="9367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на очистных сооружения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0" y="3789360"/>
            <a:ext cx="2195640" cy="51444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ожары и взрыв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0" y="4383000"/>
            <a:ext cx="2195640" cy="11383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незапное обрушение зданий и сооруж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Прямоугольник 8"/>
          <p:cNvSpPr/>
          <p:nvPr/>
        </p:nvSpPr>
        <p:spPr>
          <a:xfrm>
            <a:off x="6931080" y="1052640"/>
            <a:ext cx="21970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химически опас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Прямоугольник 9"/>
          <p:cNvSpPr/>
          <p:nvPr/>
        </p:nvSpPr>
        <p:spPr>
          <a:xfrm>
            <a:off x="6915240" y="2421000"/>
            <a:ext cx="21952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радиоактив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Прямоугольник 10"/>
          <p:cNvSpPr/>
          <p:nvPr/>
        </p:nvSpPr>
        <p:spPr>
          <a:xfrm>
            <a:off x="6915240" y="3789360"/>
            <a:ext cx="21952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на энергетических система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Прямоугольник 11"/>
          <p:cNvSpPr/>
          <p:nvPr/>
        </p:nvSpPr>
        <p:spPr>
          <a:xfrm>
            <a:off x="6915240" y="5157720"/>
            <a:ext cx="2195280" cy="120168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на коммунальных системах жизнеобеспеч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0" y="5732640"/>
            <a:ext cx="2195640" cy="936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Arial"/>
              </a:rPr>
              <a:t>Гидродинамические аварии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14"/>
          <p:cNvSpPr/>
          <p:nvPr/>
        </p:nvSpPr>
        <p:spPr>
          <a:xfrm>
            <a:off x="2484360" y="620640"/>
            <a:ext cx="22320" cy="565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6516720" y="620640"/>
            <a:ext cx="0" cy="511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6" name="Прямая со стрелкой 18"/>
          <p:cNvCxnSpPr>
            <a:endCxn id="294" idx="3"/>
          </p:cNvCxnSpPr>
          <p:nvPr/>
        </p:nvCxnSpPr>
        <p:spPr>
          <a:xfrm flipH="1">
            <a:off x="2195280" y="1056960"/>
            <a:ext cx="289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2135160" y="198108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2"/>
          <a:stretch/>
        </p:blipFill>
        <p:spPr>
          <a:xfrm>
            <a:off x="2112840" y="313380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"/>
          <p:cNvPicPr/>
          <p:nvPr/>
        </p:nvPicPr>
        <p:blipFill>
          <a:blip r:embed="rId3"/>
          <a:stretch/>
        </p:blipFill>
        <p:spPr>
          <a:xfrm>
            <a:off x="2112840" y="397656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4"/>
          <a:stretch/>
        </p:blipFill>
        <p:spPr>
          <a:xfrm>
            <a:off x="2133720" y="487368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5"/>
          <a:stretch/>
        </p:blipFill>
        <p:spPr>
          <a:xfrm>
            <a:off x="2135160" y="6200640"/>
            <a:ext cx="371520" cy="158760"/>
          </a:xfrm>
          <a:prstGeom prst="rect">
            <a:avLst/>
          </a:prstGeom>
          <a:ln w="0">
            <a:noFill/>
          </a:ln>
        </p:spPr>
      </p:pic>
      <p:cxnSp>
        <p:nvCxnSpPr>
          <p:cNvPr id="312" name="Прямая со стрелкой 21"/>
          <p:cNvCxnSpPr/>
          <p:nvPr/>
        </p:nvCxnSpPr>
        <p:spPr>
          <a:xfrm>
            <a:off x="6516360" y="1639440"/>
            <a:ext cx="415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13" name="Picture 8" descr=""/>
          <p:cNvPicPr/>
          <p:nvPr/>
        </p:nvPicPr>
        <p:blipFill>
          <a:blip r:embed="rId6"/>
          <a:stretch/>
        </p:blipFill>
        <p:spPr>
          <a:xfrm>
            <a:off x="6531120" y="565308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7"/>
          <a:stretch/>
        </p:blipFill>
        <p:spPr>
          <a:xfrm>
            <a:off x="6531120" y="430380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"/>
          <p:cNvPicPr/>
          <p:nvPr/>
        </p:nvPicPr>
        <p:blipFill>
          <a:blip r:embed="rId8"/>
          <a:stretch/>
        </p:blipFill>
        <p:spPr>
          <a:xfrm>
            <a:off x="6531120" y="295920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" descr=""/>
          <p:cNvPicPr/>
          <p:nvPr/>
        </p:nvPicPr>
        <p:blipFill>
          <a:blip r:embed="rId9"/>
          <a:stretch/>
        </p:blipFill>
        <p:spPr>
          <a:xfrm>
            <a:off x="2627280" y="770040"/>
            <a:ext cx="1728720" cy="1093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"/>
          <p:cNvPicPr/>
          <p:nvPr/>
        </p:nvPicPr>
        <p:blipFill>
          <a:blip r:embed="rId10"/>
          <a:stretch/>
        </p:blipFill>
        <p:spPr>
          <a:xfrm>
            <a:off x="2600280" y="1981080"/>
            <a:ext cx="1733760" cy="1171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"/>
          <p:cNvPicPr/>
          <p:nvPr/>
        </p:nvPicPr>
        <p:blipFill>
          <a:blip r:embed="rId11"/>
          <a:stretch/>
        </p:blipFill>
        <p:spPr>
          <a:xfrm>
            <a:off x="2627280" y="3213000"/>
            <a:ext cx="1728720" cy="1152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"/>
          <p:cNvPicPr/>
          <p:nvPr/>
        </p:nvPicPr>
        <p:blipFill>
          <a:blip r:embed="rId12"/>
          <a:stretch/>
        </p:blipFill>
        <p:spPr>
          <a:xfrm>
            <a:off x="2627280" y="321300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5" descr=""/>
          <p:cNvPicPr/>
          <p:nvPr/>
        </p:nvPicPr>
        <p:blipFill>
          <a:blip r:embed="rId13"/>
          <a:stretch/>
        </p:blipFill>
        <p:spPr>
          <a:xfrm>
            <a:off x="2627280" y="4452840"/>
            <a:ext cx="1728720" cy="1157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6" descr=""/>
          <p:cNvPicPr/>
          <p:nvPr/>
        </p:nvPicPr>
        <p:blipFill>
          <a:blip r:embed="rId14"/>
          <a:stretch/>
        </p:blipFill>
        <p:spPr>
          <a:xfrm>
            <a:off x="2577960" y="5616720"/>
            <a:ext cx="1704960" cy="113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7" descr=""/>
          <p:cNvPicPr/>
          <p:nvPr/>
        </p:nvPicPr>
        <p:blipFill>
          <a:blip r:embed="rId15"/>
          <a:stretch/>
        </p:blipFill>
        <p:spPr>
          <a:xfrm>
            <a:off x="4830840" y="770040"/>
            <a:ext cx="1611360" cy="1211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8" descr=""/>
          <p:cNvPicPr/>
          <p:nvPr/>
        </p:nvPicPr>
        <p:blipFill>
          <a:blip r:embed="rId16"/>
          <a:stretch/>
        </p:blipFill>
        <p:spPr>
          <a:xfrm>
            <a:off x="4830840" y="2205000"/>
            <a:ext cx="1611360" cy="1074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"/>
          <p:cNvPicPr/>
          <p:nvPr/>
        </p:nvPicPr>
        <p:blipFill>
          <a:blip r:embed="rId17"/>
          <a:stretch/>
        </p:blipFill>
        <p:spPr>
          <a:xfrm>
            <a:off x="4827600" y="3573360"/>
            <a:ext cx="1612800" cy="1289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0" descr=""/>
          <p:cNvPicPr/>
          <p:nvPr/>
        </p:nvPicPr>
        <p:blipFill>
          <a:blip r:embed="rId18"/>
          <a:stretch/>
        </p:blipFill>
        <p:spPr>
          <a:xfrm>
            <a:off x="4851360" y="5248440"/>
            <a:ext cx="1590840" cy="119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617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ы развития ЧС</a:t>
            </a:r>
            <a:br>
              <a:rPr sz="28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акопление отклонений от нормального состояния или процесса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явление фактора неустойчивости или «аварийная ситуация» (видны  предпосылки, есть реальная возможность предотвратить или  уменьшить ЧС)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оцесс чрезвычайного события (происходит воздействие на людей и окружающую среду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ыход аварии за пределы территории объекта и действие остаточных факторов поражения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Ликвидация последствий аварии или  стихийного бедствия (поисково-спасательные, аварийно-восстановительные работы).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ВОПРОС 3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ЧС природного характе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2143459841"/>
          <p:cNvPicPr/>
          <p:nvPr/>
        </p:nvPicPr>
        <p:blipFill>
          <a:blip r:embed="rId1"/>
          <a:stretch/>
        </p:blipFill>
        <p:spPr>
          <a:xfrm>
            <a:off x="4572000" y="2781360"/>
            <a:ext cx="4176720" cy="3816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30" name="Picture 4" descr="a3199732-1"/>
          <p:cNvPicPr/>
          <p:nvPr/>
        </p:nvPicPr>
        <p:blipFill>
          <a:blip r:embed="rId2"/>
          <a:stretch/>
        </p:blipFill>
        <p:spPr>
          <a:xfrm>
            <a:off x="324000" y="2781360"/>
            <a:ext cx="385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85480" y="333000"/>
            <a:ext cx="86072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резвычайные ситуации  природного харак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физ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землетрясения, извержение вулкан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Ге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ползни, сели, обвалы, осыпи, лав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еорологическ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агрометеорологические) опасные явления  (бури, смерчи, ураганы, град, сильный дождь, снег, мороз, метель, жара, туман, засух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рские гидр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цунами, шторм, тайфуны, напор льд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др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аводнения, низкий уровень воды, ветровые наг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родные пожары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лесные, степные, торфяные, подзем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опросы для закрепления.</a:t>
            </a:r>
            <a:br>
              <a:rPr sz="4600"/>
            </a:br>
            <a:r>
              <a:rPr b="1" i="1" lang="ru-RU" sz="4000" spc="-1" strike="noStrike">
                <a:solidFill>
                  <a:srgbClr val="ffffff"/>
                </a:solidFill>
                <a:latin typeface="Franklin Gothic Book"/>
              </a:rPr>
              <a:t>1. Найдите ошибки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К ЧС  техногенного характера относятся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а) авария на  трубопроводе;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б) разрушение озонового слоя;        в) теракт в самолете;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г) прорыв плотины на ГЭ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2. Распределите ЧС по порядку, в зависимости от скорости их развития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внезап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плавные;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скоротечные;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г) взрывные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3. Что не относится к классификации ЧС по масштабам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 территориаль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локаль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административ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г) федераль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ЕМЫЕ ВОПРОСЫ</a:t>
            </a:r>
            <a:br>
              <a:rPr sz="4600"/>
            </a:b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Чрезвычайные ситуации. Общая классификация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лассификация ЧС техногенного характера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лассификация ЧС природного характера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4. При какой ЧС поражающие факторы выходят за пределы двух субъектов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 трансграничной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региональной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федерально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5.  В какой фазе развития ЧС происходит процесс чрезвычайного события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1;     б) 2;    в) 3      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                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Домашнее задание.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1. Конспек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. Ответы на вопрос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3. Посмотреть видео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1"/>
              </a:rPr>
              <a:t>https://pptcloud.ru/obzh/chs_prirodnogo_tehnogennogo_haraktera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Домашнее задание сдать до 21.10.2020</a:t>
            </a:r>
            <a:br>
              <a:rPr sz="54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7800" cy="141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Franklin Gothic Book"/>
              </a:rPr>
              <a:t>      </a:t>
            </a:r>
            <a:r>
              <a:rPr b="1" lang="ru-RU" sz="32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ВОПРОС 1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</a:t>
            </a:r>
            <a:r>
              <a:rPr b="1" lang="ru-RU" sz="32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чрезвычайных ситуаций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50920" y="1557360"/>
            <a:ext cx="8496360" cy="5771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Чрезвычайная ситуаци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(ЧС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— это нарушение нормальных условий жизнедеятельности людей на определенной территории, вызванное аварией, катастрофой, стихийным или экологическим бедствием, в результате которых возникает угроза жизни и здоровью, наносится ущерб имуществу населения, народному хозяйству и окружающей природно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8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75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По причине возникнов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намеренные (война, диверсия) и непреднамеренные    (стихийные  бедствия)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4788000" y="2357280"/>
            <a:ext cx="4268520" cy="4000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ShowImage122"/>
          <p:cNvPicPr/>
          <p:nvPr/>
        </p:nvPicPr>
        <p:blipFill>
          <a:blip r:embed="rId2"/>
          <a:stretch/>
        </p:blipFill>
        <p:spPr>
          <a:xfrm>
            <a:off x="250920" y="2205000"/>
            <a:ext cx="432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a07"/>
          <p:cNvPicPr/>
          <p:nvPr/>
        </p:nvPicPr>
        <p:blipFill>
          <a:blip r:embed="rId1"/>
          <a:stretch/>
        </p:blipFill>
        <p:spPr>
          <a:xfrm>
            <a:off x="250920" y="2421000"/>
            <a:ext cx="4105080" cy="4176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asi14"/>
          <p:cNvPicPr/>
          <p:nvPr/>
        </p:nvPicPr>
        <p:blipFill>
          <a:blip r:embed="rId2"/>
          <a:stretch/>
        </p:blipFill>
        <p:spPr>
          <a:xfrm>
            <a:off x="4572000" y="2421000"/>
            <a:ext cx="4321080" cy="41767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250920" y="189000"/>
            <a:ext cx="856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 По природе возникнов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риродные - стихийные бедствия (землетрясения, наводнения, цунами,  сели, оползни,  лавины, снежные заносы и др.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техногенные аварии и катастрофы (взрывы, пожары, выбросы ядовитых и радиоактивных веществ, обрушение зданий, аварии на системах жизнеобеспечения и др.);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273" name="Содержимое 5" descr="-god-nazad-proizoshla-avarija-na-chernobylskoj-aes-foto_19003_s__6.jpg"/>
          <p:cNvPicPr/>
          <p:nvPr/>
        </p:nvPicPr>
        <p:blipFill>
          <a:blip r:embed="rId2"/>
          <a:stretch/>
        </p:blipFill>
        <p:spPr>
          <a:xfrm>
            <a:off x="4716360" y="2060640"/>
            <a:ext cx="417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антропогенные - являются следствием ошибочных действий людей;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5" name="Picture 4" descr="26BR6967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206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экологические - аномальные изменения состояния природной среды (качественное изменение биосферы, заражение почвы, воды, атмосферы, нарушение озонового слоя)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7" name="Picture 2" descr="miracle2-1-big"/>
          <p:cNvPicPr/>
          <p:nvPr/>
        </p:nvPicPr>
        <p:blipFill>
          <a:blip r:embed="rId1"/>
          <a:stretch/>
        </p:blipFill>
        <p:spPr>
          <a:xfrm>
            <a:off x="250920" y="2276640"/>
            <a:ext cx="4465440" cy="4321080"/>
          </a:xfrm>
          <a:prstGeom prst="rect">
            <a:avLst/>
          </a:prstGeom>
          <a:ln w="0">
            <a:noFill/>
          </a:ln>
        </p:spPr>
      </p:pic>
      <p:pic>
        <p:nvPicPr>
          <p:cNvPr id="278" name="i-main-pic" descr="Картинка 5 из 4023"/>
          <p:cNvPicPr/>
          <p:nvPr/>
        </p:nvPicPr>
        <p:blipFill>
          <a:blip r:embed="rId2"/>
          <a:stretch/>
        </p:blipFill>
        <p:spPr>
          <a:xfrm>
            <a:off x="4932360" y="2276640"/>
            <a:ext cx="396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социальные (мошенничество, бандитизм, разбой, террор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Picture 3" descr="4"/>
          <p:cNvPicPr/>
          <p:nvPr/>
        </p:nvPicPr>
        <p:blipFill>
          <a:blip r:embed="rId1"/>
          <a:stretch/>
        </p:blipFill>
        <p:spPr>
          <a:xfrm>
            <a:off x="250920" y="1889280"/>
            <a:ext cx="5184720" cy="4968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3240000" cy="2924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31687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2:12:07Z</dcterms:created>
  <dc:creator>user</dc:creator>
  <dc:description/>
  <dc:language>en-US</dc:language>
  <cp:lastModifiedBy>Зам</cp:lastModifiedBy>
  <dcterms:modified xsi:type="dcterms:W3CDTF">2020-10-16T14:18:29Z</dcterms:modified>
  <cp:revision>194</cp:revision>
  <dc:subject/>
  <dc:title>Чрезвычайные ситуациии</dc:title>
</cp:coreProperties>
</file>