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TYPE.WAV" ContentType="audio/x-wav"/>
  <Override PartName="/ppt/media/image8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CE10-8F70-43FC-85DB-709AD5644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1B7A-1A64-43B8-B86A-BE0D0D308A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A3C-49BB-49F5-A6FC-2EF382C6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B5B-3746-4BA8-9D90-BAEC352F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38D-EFA7-4230-B6FF-91BF6D2D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03B-39A8-4620-A3B6-822AF1B2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9BA4-5BD3-4A94-B36C-F3608552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DA78-09B0-48AE-A63A-87B0CA98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D9D2-4F2B-4035-88F1-CF9A9940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F77D-15D2-4539-BA90-3CD1FD52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0CE2-7FBA-446A-A783-5A8509B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9A82-53FA-46BF-BBD4-86D8744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954E-44F5-4B33-88B0-A352695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47F-648E-454E-9B63-3314B0C6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B832-D743-4CE2-88DA-29DB9D63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8E12-924B-40D0-B3E8-0E308ED9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115F-D260-43B0-BA71-F86527FE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B9A4-57FF-437D-8740-6AA146F5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DA01-BA7D-4F42-979F-9F75B772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506E-75BD-4D1D-B829-4E48CA9F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F9DF-C903-4892-866C-DE9F4515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62B5-3813-499E-A782-E5EE1624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2A09-5018-4014-89D4-8B48CAC0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0FE6-45CC-40A8-BF0A-67A4D5B5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8BE-E1A1-4154-A798-0E9A212F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092A-52FA-4013-A397-94D15014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3AD3-E596-4492-9265-8ADC3038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9741-E5CC-45E6-8295-A324A80B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D0C0-CECA-4BCF-BFF9-2768634A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B84C-A9C9-41E6-9AF6-A65206BF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4C3E-C54A-49D7-AAA5-CF27142F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5734-A36E-4F5F-9B2E-80097521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9287-BD4C-499F-9A3A-EBC47EF0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8C86B-6BAE-4322-B26F-4E8381C6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714C-B002-4ACB-900B-2F43C6D3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AC2-FC78-4B34-91EF-FB9893A7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BB2C-900B-419E-B00A-FAA2C60F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3EFB-73B7-4882-A76D-6AC80EC2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1D48-7B0F-42BB-99AC-2B064CA0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2D1B-0326-442C-ADDA-CB4BE673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4671-6943-40CD-A405-1671EAB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4F0F-8281-494B-AAA9-61AB8EFB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CFBC-CC09-455D-BD41-E8F9A0AA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0BE1-5130-46F7-B423-BBB93573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DADB1-B628-4D60-807B-9647EB8E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35A21-823B-4DA2-8757-292EB310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569-2160-4515-999B-0B40A4FA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4E57-570C-4F86-8C62-050B1BA9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170A5-518B-4E97-87E5-202BF9C3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2EE8D-E0D6-4BAC-AE59-F2CC7317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FF17-1268-47F6-B166-E4209446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DA0C4-E619-4971-B9F9-780AE669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D2AC-AEC7-454F-9D9E-9B27DD7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05675-8AF2-4E46-A4C1-3CD5963F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FAA01-3516-44F4-A09F-8E5CFDC1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444A-7D9D-4DC8-B1AE-BF1648AC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BF9DC-B27B-48C5-BEAC-819BD1C8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140-1BA2-4D08-BF68-7391EADD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7251-D9E9-49F8-809A-1AA3B9F4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FCE86-A0F4-4A32-854C-5DE612C7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D2215-16F0-4AEA-B3F5-71DF8767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C7016-BB31-44B5-B50B-DBA2E640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A2E6-6741-410B-8A22-55396000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A80D3-68B4-47C3-9350-4092D5E3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1A7A-472F-4C55-8BC4-BC1220D9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3147-2649-4C8B-999B-00C483DA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5662-D7B3-4CA6-BDEC-C520220E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24CA-32D7-496C-BDB0-289AAE68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480-DE26-4BCC-BAFD-9C2A89F0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BB3A7-F480-40DA-AB30-6B550952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A079-6FB4-40D2-89B7-A4817D77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C5E31-595E-40B1-ADED-268992D6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8C0-394C-4A00-8DE2-2A52BEBB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398-B0F7-4A80-AA80-6593603F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DC85-9AC7-46F5-AE95-B0F043180DE8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821E-229F-498F-8160-0A67D89DC4E9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861C-DDC4-49E2-8C33-E204FB1AC4FC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560C-7AF3-4AF3-9296-7712DB4B6E1B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ECF2-9537-44D3-92B0-A8D5715040E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AFDC-821C-4264-AB86-0E593758928D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ptcloud.ru/obzh/chs_prirodnogo_tehnogennogo_harakter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17520" y="360360"/>
            <a:ext cx="85820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6"/>
          <p:cNvSpPr/>
          <p:nvPr/>
        </p:nvSpPr>
        <p:spPr>
          <a:xfrm>
            <a:off x="324000" y="47628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скорости развития ЧС делят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ывные, внезапные, скоротечные, плав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24000" y="458136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масштабу распространения ЧС бываю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кальные,  местные, территориальные, региональные,  федеральные, трансгранич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1557360"/>
            <a:ext cx="83516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По возможности предотвращ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избежные (природные),  предотвращаемые (техногенные, социальн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95280" y="292428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 ведомственной принадлежности: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 промышленности,  строительстве, на транспорте, в жилищно-коммунальной сфере, сельском, лесном хозяйстве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4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9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32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642960"/>
          <a:ext cx="9144000" cy="601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острадав-ш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ы условия 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-ный уще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распрас-  транения 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5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0 до 3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тыс. до 5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города, района, н.пун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-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50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300 до 500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 тыс. до 500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до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тыс. до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гранич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2" descr=""/>
          <p:cNvPicPr/>
          <p:nvPr/>
        </p:nvPicPr>
        <p:blipFill>
          <a:blip r:embed="rId1"/>
          <a:stretch/>
        </p:blipFill>
        <p:spPr>
          <a:xfrm>
            <a:off x="676440" y="225360"/>
            <a:ext cx="7785000" cy="1049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техноге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395280" y="2924280"/>
          <a:ext cx="39607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924280"/>
                    <a:ext cx="3960720" cy="34574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2" name="Picture 5" descr="207894"/>
          <p:cNvPicPr/>
          <p:nvPr/>
        </p:nvPicPr>
        <p:blipFill>
          <a:blip r:embed="rId4"/>
          <a:stretch/>
        </p:blipFill>
        <p:spPr>
          <a:xfrm>
            <a:off x="4788000" y="2924280"/>
            <a:ext cx="4032000" cy="3457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0" y="0"/>
            <a:ext cx="9128160" cy="620640"/>
          </a:xfrm>
          <a:prstGeom prst="rect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резвычайные ситуации 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770040"/>
            <a:ext cx="2195640" cy="57600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нспортные ава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0" y="1484280"/>
            <a:ext cx="2195640" cy="1152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биолог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0" y="2744640"/>
            <a:ext cx="2195640" cy="936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на очистных сооружения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0" y="3789360"/>
            <a:ext cx="2195640" cy="51444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жары и взры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0" y="4383000"/>
            <a:ext cx="2195640" cy="11383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незапное обрушение зданий и сооруж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8"/>
          <p:cNvSpPr/>
          <p:nvPr/>
        </p:nvSpPr>
        <p:spPr>
          <a:xfrm>
            <a:off x="6931080" y="1052640"/>
            <a:ext cx="21970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хим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6915240" y="242100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радиоактив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915240" y="378936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энергетических систем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6915240" y="5157720"/>
            <a:ext cx="2195280" cy="120168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коммунальных системах жизнеобеспе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0" y="5732640"/>
            <a:ext cx="2195640" cy="936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Гидродинамические аварии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4"/>
          <p:cNvSpPr/>
          <p:nvPr/>
        </p:nvSpPr>
        <p:spPr>
          <a:xfrm>
            <a:off x="2484360" y="620640"/>
            <a:ext cx="22320" cy="56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6516720" y="620640"/>
            <a:ext cx="0" cy="511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Прямая со стрелкой 18"/>
          <p:cNvCxnSpPr>
            <a:endCxn id="294" idx="3"/>
          </p:cNvCxnSpPr>
          <p:nvPr/>
        </p:nvCxnSpPr>
        <p:spPr>
          <a:xfrm flipH="1">
            <a:off x="2195280" y="105696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2112840" y="313380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3"/>
          <a:stretch/>
        </p:blipFill>
        <p:spPr>
          <a:xfrm>
            <a:off x="2112840" y="397656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4"/>
          <a:stretch/>
        </p:blipFill>
        <p:spPr>
          <a:xfrm>
            <a:off x="2133720" y="48736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135160" y="6200640"/>
            <a:ext cx="371520" cy="15876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21"/>
          <p:cNvCxnSpPr/>
          <p:nvPr/>
        </p:nvCxnSpPr>
        <p:spPr>
          <a:xfrm>
            <a:off x="6516360" y="1639440"/>
            <a:ext cx="415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6531120" y="565308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6531120" y="43038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6531120" y="29592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2627280" y="770040"/>
            <a:ext cx="1728720" cy="1093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2600280" y="1981080"/>
            <a:ext cx="1733760" cy="1171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2627280" y="3213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2627280" y="321300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27280" y="4452840"/>
            <a:ext cx="1728720" cy="1157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577960" y="5616720"/>
            <a:ext cx="1704960" cy="113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4830840" y="770040"/>
            <a:ext cx="1611360" cy="1211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4830840" y="220500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4827600" y="3573360"/>
            <a:ext cx="1612800" cy="1289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4851360" y="5248440"/>
            <a:ext cx="1590840" cy="119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17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 развития ЧС</a:t>
            </a:r>
            <a:br>
              <a:rPr sz="28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копление отклонений от нормального состояния или процесса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явление фактора неустойчивости или «аварийная ситуация» (видны  предпосылки, есть реальная возможность предотвратить или  уменьшить ЧС)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цесс чрезвычайного события (происходит воздействие на людей и окружающую среду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ход аварии за пределы территории объекта и действие остаточных факторов поражения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Ликвидация последствий аварии или  стихийного бедствия (поисково-спасательные, аварийно-восстановительные работы)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3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природного характе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2143459841"/>
          <p:cNvPicPr/>
          <p:nvPr/>
        </p:nvPicPr>
        <p:blipFill>
          <a:blip r:embed="rId1"/>
          <a:stretch/>
        </p:blipFill>
        <p:spPr>
          <a:xfrm>
            <a:off x="4572000" y="2781360"/>
            <a:ext cx="4176720" cy="381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30" name="Picture 4" descr="a3199732-1"/>
          <p:cNvPicPr/>
          <p:nvPr/>
        </p:nvPicPr>
        <p:blipFill>
          <a:blip r:embed="rId2"/>
          <a:stretch/>
        </p:blipFill>
        <p:spPr>
          <a:xfrm>
            <a:off x="324000" y="2781360"/>
            <a:ext cx="38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85480" y="333000"/>
            <a:ext cx="86072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вычайные ситуации  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физ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летрясения, извержение вулка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Ге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олзни, сели, обвалы, осыпи, лав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ологиче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агрометеорологические) опасные явления  (бури, смерчи, ураганы, град, сильный дождь, снег, мороз, метель, жара, туман, засух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ие 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цунами, шторм, тайфуны, напор ль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воднения, низкий уровень воды, ветровые наг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ые пожар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есные, степные, торфяные, подзем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.</a:t>
            </a:r>
            <a:br>
              <a:rPr sz="4600"/>
            </a:br>
            <a:r>
              <a:rPr b="1" i="1" lang="ru-RU" sz="4000" spc="-1" strike="noStrike">
                <a:solidFill>
                  <a:srgbClr val="ffffff"/>
                </a:solidFill>
                <a:latin typeface="Franklin Gothic Book"/>
              </a:rPr>
              <a:t>1. Найдите ошиб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К ЧС  техногенного характера относятся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а) авария на  трубопроводе;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б) разрушение озонового слоя;        в) теракт в самолете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) прорыв плотины на ГЭ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2. Распределите ЧС по порядку, в зависимости от скорости их разви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внезап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плав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скоротеч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взрывные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3. Что не относится к классификации ЧС по масштабам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ерритори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лок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административ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федераль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МЫЕ ВОПРОСЫ</a:t>
            </a:r>
            <a:br>
              <a:rPr sz="4600"/>
            </a:b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резвычайные ситуации. Общая классификация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лассификация ЧС техногенного характера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лассификация ЧС природного характ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4. При какой ЧС поражающие факторы выходят за пределы двух субъектов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рансгранич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региональ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федера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5.  В какой фазе развития ЧС происходит процесс чрезвычайного собы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1;     б) 2;    в) 3     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. Конспек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Ответы на вопро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. Посмотреть видео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s://pptcloud.ru/obzh/chs_prirodnogo_tehnogennogo_haraktera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Домашнее задание сдать до 21.10.2020</a:t>
            </a:r>
            <a:br>
              <a:rPr sz="5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4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Franklin Gothic Book"/>
              </a:rPr>
              <a:t>      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чрезвычайных ситуац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1557360"/>
            <a:ext cx="8496360" cy="577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резвычайная ситуаци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(ЧС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это нарушение нормальных условий жизнедеятельности людей на определенной территории, вызванное аварией, катастрофой, стихийным или экологическим бедствием, в результате которых возникает угроза жизни и здоровью, наносится ущерб имуществу населения, народному хозяйству и окружающей природно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8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 причин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амеренные (война, диверсия) и непреднамеренные    (стихийные  бедствия)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788000" y="2357280"/>
            <a:ext cx="4268520" cy="400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howImage122"/>
          <p:cNvPicPr/>
          <p:nvPr/>
        </p:nvPicPr>
        <p:blipFill>
          <a:blip r:embed="rId2"/>
          <a:stretch/>
        </p:blipFill>
        <p:spPr>
          <a:xfrm>
            <a:off x="250920" y="220500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a07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asi14"/>
          <p:cNvPicPr/>
          <p:nvPr/>
        </p:nvPicPr>
        <p:blipFill>
          <a:blip r:embed="rId2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250920" y="18900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о природ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иродные - стихийные бедствия (землетрясения, наводнения, цунами,  сели, оползни,  лавины, снежные заносы и д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ехногенные аварии и катастрофы (взрывы, пожары, выбросы ядовитых и радиоактивных веществ, обрушение зданий, аварии на системах жизнеобеспечения и др.)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-god-nazad-proizoshla-avarija-na-chernobylskoj-aes-foto_19003_s__6.jpg"/>
          <p:cNvPicPr/>
          <p:nvPr/>
        </p:nvPicPr>
        <p:blipFill>
          <a:blip r:embed="rId2"/>
          <a:stretch/>
        </p:blipFill>
        <p:spPr>
          <a:xfrm>
            <a:off x="4716360" y="2060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нтропогенные - являются следствием ошибочных действий людей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Picture 4" descr="26BR6967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экологические - аномальные изменения состояния природной среды (качественное изменение биосферы, заражение почвы, воды, атмосферы, нарушение озонового слоя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miracle2-1-big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i-main-pic" descr="Картинка 5 из 4023"/>
          <p:cNvPicPr/>
          <p:nvPr/>
        </p:nvPicPr>
        <p:blipFill>
          <a:blip r:embed="rId2"/>
          <a:stretch/>
        </p:blipFill>
        <p:spPr>
          <a:xfrm>
            <a:off x="4932360" y="227664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социальные (мошенничество, бандитизм, разбой, террор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3" descr="4"/>
          <p:cNvPicPr/>
          <p:nvPr/>
        </p:nvPicPr>
        <p:blipFill>
          <a:blip r:embed="rId1"/>
          <a:stretch/>
        </p:blipFill>
        <p:spPr>
          <a:xfrm>
            <a:off x="250920" y="1889280"/>
            <a:ext cx="5184720" cy="4968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40000" cy="2924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168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2:12:07Z</dcterms:created>
  <dc:creator>user</dc:creator>
  <dc:description/>
  <dc:language>en-US</dc:language>
  <cp:lastModifiedBy>Зам</cp:lastModifiedBy>
  <dcterms:modified xsi:type="dcterms:W3CDTF">2020-10-16T14:18:29Z</dcterms:modified>
  <cp:revision>194</cp:revision>
  <dc:subject/>
  <dc:title>Чрезвычайные ситуациии</dc:title>
</cp:coreProperties>
</file>